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31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4.jpeg" ContentType="image/jpeg"/>
  <Override PartName="/ppt/media/image40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51.png" ContentType="image/png"/>
  <Override PartName="/ppt/media/image19.jpeg" ContentType="image/jpeg"/>
  <Override PartName="/ppt/media/image42.jpeg" ContentType="image/jpeg"/>
  <Override PartName="/ppt/media/image37.jpeg" ContentType="image/jpeg"/>
  <Override PartName="/ppt/media/image30.png" ContentType="image/png"/>
  <Override PartName="/ppt/media/image48.jpeg" ContentType="image/jpeg"/>
  <Override PartName="/ppt/media/image13.gif" ContentType="image/gif"/>
  <Override PartName="/ppt/media/image16.png" ContentType="image/png"/>
  <Override PartName="/ppt/media/image49.jpeg" ContentType="image/jpeg"/>
  <Override PartName="/ppt/media/image20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ADA-2337-4DB8-99BE-982FF3E4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3CA-0AC6-4F06-BD2D-25E45F9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3D80-0097-46FC-9CC2-DAB76E01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0AC48-93CE-4102-9534-7902D154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6CBFC-9644-4980-80E8-54DD9BC2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7B608-ABA4-45E0-B5AD-7B48843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C6159-EBF3-4CB8-BC40-273BA6D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DB8C-E0BB-434D-B30B-E27DBD6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EAC86-B52E-4F4B-9E91-F45EAC7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53937-6C5E-46CA-A78C-FD2FB668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44863-E3CD-4B1A-BB0F-F151C01A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0AB21-F624-43F9-9413-93175D7B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DE8-21E5-49C0-980A-F78CAC3F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54E3-E4CF-4B42-A7EB-E86C060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75A6B-B5ED-4F43-9D8E-5A6A631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0BDDD-BFB6-46C0-B7A3-B900DCEF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1880A-FC6E-4933-A37B-BEDAE184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6D6D9-8E9C-4A5D-AAE9-7323C2E3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2760C-BC2D-4D04-9F34-10B34C9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36BF3-DEE9-4E94-B77B-DA95182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D3E5-2C8D-498F-8E41-F7F68C9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5BE6-66CA-46EF-8EFB-DB56C1BF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EFCD8-BC28-48E3-811F-6E6502FE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D75-164B-46F3-8276-9C04D3AE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FC37C-AD67-453C-AC32-503C682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7199B-6215-4CE3-BDC1-71745E8C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90E87-9D34-4E7B-A30B-18BF768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7203-D6D2-4568-ACBB-9563992D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F708E-B9FD-4A52-821A-3FD27199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3B05B-FB66-4B55-8E7E-2EE825F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687E2-539C-4734-92FA-19C8E625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C5D6E-2C73-418D-910B-1E7615E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351DF-D36A-4CAD-8809-255A0A3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E56A8-3704-47E3-9864-B7E2AE8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AB4A-56E3-4A6C-AC93-0716AF2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56C28-85DE-44F9-81EA-78D28BB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F8B51-11F1-4808-99BD-0044B99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655A0-6C50-4D91-A73D-00ECBA8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83C20-F23D-4C53-B44D-718A3852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FA47A-C717-4567-92D6-46B822ED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A2861-3236-4578-8B4D-8F1ED00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E92BD-F490-4614-9829-A1E3F078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AB367-87E5-4B9C-97FD-F7C69330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06CB3-B70E-4589-8354-21F7041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71E86-7AC4-4F2F-87FC-147B9CA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45B-ED04-4D84-BCB4-62341D5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98579-C49B-4A72-901B-9CEEF61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11E91-A7DF-4B8C-AD8E-5BACEB9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09661-60F7-4AB7-9FCE-786D8AB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89089-E283-4DB5-847A-87183D10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12BCA-9CB2-4C4F-90E2-D2579D2C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92BF-1E35-4065-B195-74561DB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C3B-3045-4859-BFBF-BCF8419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D4E1-F8DB-4B3F-8437-6587727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66D2-A4A4-41D0-8E6E-D453A87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3FD-942C-47B4-9733-96F950E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62E-32B9-4701-A3E2-C4122D5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F51F-C5FD-4B47-B2FE-42ED0C1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0758-80E2-4530-8A38-B357F74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84C8-B027-401F-9836-47DEDA7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844B-6A84-485F-B868-408E1BC0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CE1-5071-4BF0-BAF1-A238DF5E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A1B4-FEB0-4E92-B679-0032022E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9601-FD1F-4997-A18F-280758E2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528B-194C-4125-8CCF-B52A5A11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812E-E749-4F29-AA19-A3BFF79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56BF-0EE6-42EF-93F1-B3DCD14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C51-A3D7-45A1-B9A7-926072E4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0091-4EA8-4354-ADC3-7BD6AF7F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8810-2D83-4E2B-BC07-4563CCB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71AF-1B2A-4136-82B3-AC9EFFA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9A94-8070-464A-9C57-3751585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9DAB-CCAF-4A09-BA25-1EBEF5EF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6C5A-1910-4633-BE71-95A8B828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E6E3-8400-4F6C-AEE3-27B4C50D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F2E3-6FA4-440A-B922-EAE3366A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8ED3-093F-4EC3-A5FA-DF96B8E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1CAF-E5D5-4470-9C3E-B9729D7D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264-B5C6-4449-98DE-93B485F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0D46-DE14-4BC9-989D-C03BF743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E844-C241-4C64-9DEC-76B1CDB6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5DAD-5FF3-42F1-8AB4-01930AF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8376-E27A-4ECF-88F7-4D0F011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A17B-3554-4CFE-AD97-31874FC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D8B9-9556-4EE3-9024-EBA8D78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6BFD-F709-4931-98A0-23C7AF4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DA6F-8E63-4CB0-ACC7-AE9CCFD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26B9-1C24-42D4-B14C-D7003E29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11A4-E54A-4C4A-BC84-F2D414D2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552-FA5F-4CA3-97CF-EB5FD73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7A7F-8B20-4C1F-B292-004A5FFA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5EBC-5990-4744-9B6B-4475DF99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76C6E-6DBB-4380-A0A3-52DADD65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2DAF3-4CBA-4EBF-B124-59BFEC1D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84F6-987B-4291-B207-9A39925F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5483-618A-4711-853C-67D4A9D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E6D2-941F-4B2D-9C01-65BE13B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D79B-438F-4C34-A35D-B3C1620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705C-4693-4036-87E7-DD63558E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52A4-C775-4088-B8ED-1B02B67F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571-CD97-4866-BC18-F95177D9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4938-05A6-47DC-8D1A-929922F2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C4AF-0997-437D-ABD1-0E17DFA6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8FFC-477F-488A-972E-420AD0C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D919-F77E-4901-8499-4FDA9BE1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93CE-ADB6-4F12-A7B0-EF91190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ED10-B950-4E09-BD64-E00487A5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97DD-B49F-48EA-A7D7-0DC9BD2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68ED-1060-412F-A11D-C3BA70F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9D96-1865-49D1-B12C-BB765DD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E5DFF-7383-4E4B-BFE3-88EFFE7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7C0-0691-49C0-AC94-763B93A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B7D9-C813-49DB-9818-77F8E14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1950-6ABF-40E7-B0FD-9E11AAC6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35A57-88BB-46A9-9619-FBD8AE8D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0791-CD37-423F-B274-9EEEE021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CF34-C1C9-41FB-BB96-5A7563F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5207-3EC2-4005-8A1B-4E32BA8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5464-C91F-456E-8C98-8C04A2CB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D834B-8803-45B7-9A3B-509C7C6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00FE-ABD3-4279-972C-5B79F7F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4F388-A308-43D5-A809-C154B5E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C4A-E73F-47BA-810D-C07C9F9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EDE3-98B2-4B3A-9D80-25CFA2A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AD522-DFAD-486A-8368-8CCEB03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21811-0FB7-4959-B416-8725626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47E8-5BC1-4D25-A2CD-E5B2C0FB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36A07-C722-4BA3-BCDB-91C9CE5B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A2C0-A65A-4F95-8A67-0F9A5CBC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0186-61B2-45F0-B242-D5870997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3DE0-4B98-4DE6-A458-D7D538D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538D-B4D9-40FF-8BDE-19A0AA8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0B77-19BA-44B1-9082-E9FEF45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EE0-A83D-4AAD-8E00-FF33574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AE27-E7FB-4EEA-8765-1C34214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88F36-DEE8-43E2-8003-CF6DC29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C3DA-3CD7-464F-BAB7-E2B3F0B8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AC03-784F-43FF-B85F-9E5EBE28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D56D2-4B12-4F88-BB0B-D56600D9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3694-74F9-4C01-A014-87712F9C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D5EB-936A-4394-B0DF-D74C3966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603E3-5319-4014-8AD8-236C6323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97EA-9F76-4AA6-B4BF-9FFDEE04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55DD2-14A4-4D18-A53F-09B84728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15DE-863B-47B2-B498-369E6A5D7F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F285-0AF1-4D52-A65D-1D2F751039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7FF-BE76-4AD7-BE34-89C96240D2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85A-1626-4E87-8803-B175254AA8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584-735E-41DF-98F6-BC1D5AD8A6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6C8-93AD-405D-AE9A-AE6ECCFC24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31B-DE17-4F31-8B06-C43DF4FA9B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931F-94C7-463E-A40D-70C318B821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DCB-A8FB-4AAA-9F0B-9DEF06B391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A15-ACDC-4138-9FF6-9434D8AF93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25FC-D06B-48D4-9067-1F5F715CF2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42A7-AB58-49E9-B30E-3EE7F76EF4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8.jpe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jpe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0.jpe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0.jpe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21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50.jpe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139680"/>
            <a:ext cx="8362800" cy="1201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7"/>
          <p:cNvSpPr/>
          <p:nvPr/>
        </p:nvSpPr>
        <p:spPr>
          <a:xfrm>
            <a:off x="4143240" y="228600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Он открыл людям Земли дорогу в неизвестный мир. Но только ли это? Думается, Гагарин сделал нечто большее - он дал людям веру в их собственные силы, в их возможности, дал силу идти увереннее, смелее...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Это - Прометеево деяние...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                        С.П. КОРОЛ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Я Земля.mp3" descr=""/>
          <p:cNvPicPr/>
          <p:nvPr/>
        </p:nvPicPr>
        <p:blipFill>
          <a:blip r:embed="rId4"/>
          <a:stretch/>
        </p:blipFill>
        <p:spPr>
          <a:xfrm>
            <a:off x="8572680" y="6429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7" descr="9419816"/>
          <p:cNvPicPr/>
          <p:nvPr/>
        </p:nvPicPr>
        <p:blipFill>
          <a:blip r:embed="rId3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9419816"/>
          <p:cNvPicPr/>
          <p:nvPr/>
        </p:nvPicPr>
        <p:blipFill>
          <a:blip r:embed="rId4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9419816"/>
          <p:cNvPicPr/>
          <p:nvPr/>
        </p:nvPicPr>
        <p:blipFill>
          <a:blip r:embed="rId6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6" descr="imgB"/>
          <p:cNvPicPr/>
          <p:nvPr/>
        </p:nvPicPr>
        <p:blipFill>
          <a:blip r:embed="rId7"/>
          <a:stretch/>
        </p:blipFill>
        <p:spPr>
          <a:xfrm>
            <a:off x="1547640" y="47628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7" descr="9419816"/>
          <p:cNvPicPr/>
          <p:nvPr/>
        </p:nvPicPr>
        <p:blipFill>
          <a:blip r:embed="rId8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9419816"/>
          <p:cNvPicPr/>
          <p:nvPr/>
        </p:nvPicPr>
        <p:blipFill>
          <a:blip r:embed="rId9"/>
          <a:stretch/>
        </p:blipFill>
        <p:spPr>
          <a:xfrm>
            <a:off x="0" y="328608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6" descr="imgB"/>
          <p:cNvPicPr/>
          <p:nvPr/>
        </p:nvPicPr>
        <p:blipFill>
          <a:blip r:embed="rId10"/>
          <a:stretch/>
        </p:blipFill>
        <p:spPr>
          <a:xfrm>
            <a:off x="1571760" y="50004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9419816"/>
          <p:cNvPicPr/>
          <p:nvPr/>
        </p:nvPicPr>
        <p:blipFill>
          <a:blip r:embed="rId11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9419816"/>
          <p:cNvPicPr/>
          <p:nvPr/>
        </p:nvPicPr>
        <p:blipFill>
          <a:blip r:embed="rId12"/>
          <a:stretch/>
        </p:blipFill>
        <p:spPr>
          <a:xfrm>
            <a:off x="888048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9419816"/>
          <p:cNvPicPr/>
          <p:nvPr/>
        </p:nvPicPr>
        <p:blipFill>
          <a:blip r:embed="rId13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Его отец, Алексей Иванович Гагарин (1902—1973), - плотник, мать, Анна Тимофеевна Матвеева (1903—1984), - работала на молочнотоварной ферм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9419816"/>
          <p:cNvPicPr/>
          <p:nvPr/>
        </p:nvPicPr>
        <p:blipFill>
          <a:blip r:embed="rId4"/>
          <a:stretch/>
        </p:blipFill>
        <p:spPr>
          <a:xfrm>
            <a:off x="2987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9419816"/>
          <p:cNvPicPr/>
          <p:nvPr/>
        </p:nvPicPr>
        <p:blipFill>
          <a:blip r:embed="rId6"/>
          <a:stretch/>
        </p:blipFill>
        <p:spPr>
          <a:xfrm>
            <a:off x="4211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4" descr="gagarin_roditeli"/>
          <p:cNvPicPr/>
          <p:nvPr/>
        </p:nvPicPr>
        <p:blipFill>
          <a:blip r:embed="rId7"/>
          <a:stretch/>
        </p:blipFill>
        <p:spPr>
          <a:xfrm>
            <a:off x="971640" y="476280"/>
            <a:ext cx="7129440" cy="4629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9419816"/>
          <p:cNvPicPr/>
          <p:nvPr/>
        </p:nvPicPr>
        <p:blipFill>
          <a:blip r:embed="rId8"/>
          <a:stretch/>
        </p:blipFill>
        <p:spPr>
          <a:xfrm>
            <a:off x="5435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gagarin_roditeli"/>
          <p:cNvPicPr/>
          <p:nvPr/>
        </p:nvPicPr>
        <p:blipFill>
          <a:blip r:embed="rId9"/>
          <a:stretch/>
        </p:blipFill>
        <p:spPr>
          <a:xfrm>
            <a:off x="1000080" y="500040"/>
            <a:ext cx="7129440" cy="4629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9419816"/>
          <p:cNvPicPr/>
          <p:nvPr/>
        </p:nvPicPr>
        <p:blipFill>
          <a:blip r:embed="rId10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9419816"/>
          <p:cNvPicPr/>
          <p:nvPr/>
        </p:nvPicPr>
        <p:blipFill>
          <a:blip r:embed="rId11"/>
          <a:stretch/>
        </p:blipFill>
        <p:spPr>
          <a:xfrm>
            <a:off x="888048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9419816"/>
          <p:cNvPicPr/>
          <p:nvPr/>
        </p:nvPicPr>
        <p:blipFill>
          <a:blip r:embed="rId12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9419816"/>
          <p:cNvPicPr/>
          <p:nvPr/>
        </p:nvPicPr>
        <p:blipFill>
          <a:blip r:embed="rId13"/>
          <a:stretch/>
        </p:blipFill>
        <p:spPr>
          <a:xfrm>
            <a:off x="0" y="314316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9419816"/>
          <p:cNvPicPr/>
          <p:nvPr/>
        </p:nvPicPr>
        <p:blipFill>
          <a:blip r:embed="rId2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9419816"/>
          <p:cNvPicPr/>
          <p:nvPr/>
        </p:nvPicPr>
        <p:blipFill>
          <a:blip r:embed="rId3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9419816"/>
          <p:cNvPicPr/>
          <p:nvPr/>
        </p:nvPicPr>
        <p:blipFill>
          <a:blip r:embed="rId4"/>
          <a:stretch/>
        </p:blipFill>
        <p:spPr>
          <a:xfrm>
            <a:off x="0" y="321480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9419816"/>
          <p:cNvPicPr/>
          <p:nvPr/>
        </p:nvPicPr>
        <p:blipFill>
          <a:blip r:embed="rId5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9419816"/>
          <p:cNvPicPr/>
          <p:nvPr/>
        </p:nvPicPr>
        <p:blipFill>
          <a:blip r:embed="rId6"/>
          <a:stretch/>
        </p:blipFill>
        <p:spPr>
          <a:xfrm>
            <a:off x="889308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9419816"/>
          <p:cNvPicPr/>
          <p:nvPr/>
        </p:nvPicPr>
        <p:blipFill>
          <a:blip r:embed="rId7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9419816"/>
          <p:cNvPicPr/>
          <p:nvPr/>
        </p:nvPicPr>
        <p:blipFill>
          <a:blip r:embed="rId8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16536_49e034cc514f2"/>
          <p:cNvPicPr/>
          <p:nvPr/>
        </p:nvPicPr>
        <p:blipFill>
          <a:blip r:embed="rId9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5"/>
          <p:cNvSpPr/>
          <p:nvPr/>
        </p:nvSpPr>
        <p:spPr>
          <a:xfrm>
            <a:off x="3708360" y="404640"/>
            <a:ext cx="496728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 сентября 1941 года мальчик пошёл в школу, но 12 октября деревню заняли немцы, и его учёба прервалась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Семья Юрия оказалась в тылу врага. Семье Гагариных пришлось испытать на себе все ужасы и тяготы военного лихолетья. Но именно в эти годы у будущего космонавта зародилась мечта летать, стать летчико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Однажды над родным селом, занятым фашистами, советский летчик повторил подвиг капитана Гастелло, протаранив немецкий самолет. Объятый пламенем самолет упал на скопившиеся на сельской улице немецкие танки и пушки. «Вот так надо любить Родину и ненавидеть врагов, - подумал Юра.- Я вырасту и обязательно буду летчиком». Став взрослым, он выполнил свое  обещание.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16" descr="9419816"/>
          <p:cNvPicPr/>
          <p:nvPr/>
        </p:nvPicPr>
        <p:blipFill>
          <a:blip r:embed="rId10"/>
          <a:stretch/>
        </p:blipFill>
        <p:spPr>
          <a:xfrm>
            <a:off x="8893080" y="342900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9419816"/>
          <p:cNvPicPr/>
          <p:nvPr/>
        </p:nvPicPr>
        <p:blipFill>
          <a:blip r:embed="rId11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62" name="07_-_smolenskaya_doroga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17758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5" descr="9419816"/>
          <p:cNvPicPr/>
          <p:nvPr/>
        </p:nvPicPr>
        <p:blipFill>
          <a:blip r:embed="rId3"/>
          <a:stretch/>
        </p:blipFill>
        <p:spPr>
          <a:xfrm>
            <a:off x="0" y="35719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9419816"/>
          <p:cNvPicPr/>
          <p:nvPr/>
        </p:nvPicPr>
        <p:blipFill>
          <a:blip r:embed="rId4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9419816"/>
          <p:cNvPicPr/>
          <p:nvPr/>
        </p:nvPicPr>
        <p:blipFill>
          <a:blip r:embed="rId6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4" descr="16536_49e034cc514f2"/>
          <p:cNvPicPr/>
          <p:nvPr/>
        </p:nvPicPr>
        <p:blipFill>
          <a:blip r:embed="rId7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5"/>
          <p:cNvSpPr/>
          <p:nvPr/>
        </p:nvSpPr>
        <p:spPr>
          <a:xfrm>
            <a:off x="3708360" y="620640"/>
            <a:ext cx="50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9 апреля 1943 года деревню освободила Красная армия, и учёба в школе возобнов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В 1945 году семья Гагариных переезжает в райцентр Гжатск (ныне город  Гагарин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В мае 1949 года Гагарин окончил шестой класс Гжатской средней школы, и в сентябре поступил в Люберецкое ремесленное училище № 10. Одновременно поступил в вечернюю школу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рабочей молодёж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Седьмой класс и училище с отличием окончил в  1951 год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16" descr="9419816"/>
          <p:cNvPicPr/>
          <p:nvPr/>
        </p:nvPicPr>
        <p:blipFill>
          <a:blip r:embed="rId8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9419816"/>
          <p:cNvPicPr/>
          <p:nvPr/>
        </p:nvPicPr>
        <p:blipFill>
          <a:blip r:embed="rId9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9419816"/>
          <p:cNvPicPr/>
          <p:nvPr/>
        </p:nvPicPr>
        <p:blipFill>
          <a:blip r:embed="rId10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9419816"/>
          <p:cNvPicPr/>
          <p:nvPr/>
        </p:nvPicPr>
        <p:blipFill>
          <a:blip r:embed="rId11"/>
          <a:stretch/>
        </p:blipFill>
        <p:spPr>
          <a:xfrm>
            <a:off x="901224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9419816"/>
          <p:cNvPicPr/>
          <p:nvPr/>
        </p:nvPicPr>
        <p:blipFill>
          <a:blip r:embed="rId12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9419816"/>
          <p:cNvPicPr/>
          <p:nvPr/>
        </p:nvPicPr>
        <p:blipFill>
          <a:blip r:embed="rId6"/>
          <a:stretch/>
        </p:blipFill>
        <p:spPr>
          <a:xfrm>
            <a:off x="889308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3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14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5" descr="163640088"/>
          <p:cNvPicPr/>
          <p:nvPr/>
        </p:nvPicPr>
        <p:blipFill>
          <a:blip r:embed="rId11"/>
          <a:stretch/>
        </p:blipFill>
        <p:spPr>
          <a:xfrm>
            <a:off x="1332000" y="480960"/>
            <a:ext cx="6119640" cy="39466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6"/>
          <p:cNvSpPr/>
          <p:nvPr/>
        </p:nvSpPr>
        <p:spPr>
          <a:xfrm>
            <a:off x="324000" y="45813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В августе 1951 года Гагарин поступил в Саратовский индустриальный техникум, и 25 октября 1954 года впервые пришёл в Саратовский аэрокл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9419816"/>
          <p:cNvPicPr/>
          <p:nvPr/>
        </p:nvPicPr>
        <p:blipFill>
          <a:blip r:embed="rId12"/>
          <a:stretch/>
        </p:blipFill>
        <p:spPr>
          <a:xfrm>
            <a:off x="0" y="328608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9419816"/>
          <p:cNvPicPr/>
          <p:nvPr/>
        </p:nvPicPr>
        <p:blipFill>
          <a:blip r:embed="rId4"/>
          <a:stretch/>
        </p:blipFill>
        <p:spPr>
          <a:xfrm>
            <a:off x="0" y="328464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9419816"/>
          <p:cNvPicPr/>
          <p:nvPr/>
        </p:nvPicPr>
        <p:blipFill>
          <a:blip r:embed="rId7"/>
          <a:stretch/>
        </p:blipFill>
        <p:spPr>
          <a:xfrm>
            <a:off x="8893080" y="321300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img"/>
          <p:cNvPicPr/>
          <p:nvPr/>
        </p:nvPicPr>
        <p:blipFill>
          <a:blip r:embed="rId12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7"/>
          <p:cNvSpPr/>
          <p:nvPr/>
        </p:nvSpPr>
        <p:spPr>
          <a:xfrm>
            <a:off x="4788000" y="907920"/>
            <a:ext cx="385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27 октября 1955 года Гагарин был призван в армию в Оренбург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в военно-авиационное училище лётчиков имени К. Е. Ворошилов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25 октября 1957 года Гагарин  закончил училище с отличи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В течение двух лет служил в  авиационном полк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К октябрю 1959 года налетал в общей сложности 265 ча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9419816"/>
          <p:cNvPicPr/>
          <p:nvPr/>
        </p:nvPicPr>
        <p:blipFill>
          <a:blip r:embed="rId4"/>
          <a:stretch/>
        </p:blipFill>
        <p:spPr>
          <a:xfrm>
            <a:off x="0" y="306864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9419816"/>
          <p:cNvPicPr/>
          <p:nvPr/>
        </p:nvPicPr>
        <p:blipFill>
          <a:blip r:embed="rId5"/>
          <a:stretch/>
        </p:blipFill>
        <p:spPr>
          <a:xfrm>
            <a:off x="0" y="6453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9419816"/>
          <p:cNvPicPr/>
          <p:nvPr/>
        </p:nvPicPr>
        <p:blipFill>
          <a:blip r:embed="rId7"/>
          <a:stretch/>
        </p:blipFill>
        <p:spPr>
          <a:xfrm>
            <a:off x="8893080" y="6453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9419816"/>
          <p:cNvPicPr/>
          <p:nvPr/>
        </p:nvPicPr>
        <p:blipFill>
          <a:blip r:embed="rId8"/>
          <a:stretch/>
        </p:blipFill>
        <p:spPr>
          <a:xfrm>
            <a:off x="8893080" y="2997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5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16" descr="B3A17A29-ADDC-44EA-9CB8-8714D0D9144E_mw800_mh600_s"/>
          <p:cNvPicPr/>
          <p:nvPr/>
        </p:nvPicPr>
        <p:blipFill>
          <a:blip r:embed="rId12"/>
          <a:stretch/>
        </p:blipFill>
        <p:spPr>
          <a:xfrm>
            <a:off x="2268360" y="54936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7"/>
          <p:cNvSpPr/>
          <p:nvPr/>
        </p:nvSpPr>
        <p:spPr>
          <a:xfrm>
            <a:off x="324000" y="407664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зачислен в группу кандидатов в космонавты. С 25 марта начались регулярные занятия по программе подготовки космонав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07196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3"/>
          <a:stretch/>
        </p:blipFill>
        <p:spPr>
          <a:xfrm>
            <a:off x="371484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vistupl6.mp3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32532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1285920" y="142920"/>
            <a:ext cx="6500880" cy="6572160"/>
          </a:xfrm>
          <a:prstGeom prst="rect">
            <a:avLst/>
          </a:prstGeom>
          <a:ln w="0">
            <a:noFill/>
          </a:ln>
        </p:spPr>
      </p:pic>
      <p:pic>
        <p:nvPicPr>
          <p:cNvPr id="623" name="govority.mp3" descr=""/>
          <p:cNvPicPr/>
          <p:nvPr/>
        </p:nvPicPr>
        <p:blipFill>
          <a:blip r:embed="rId3"/>
          <a:stretch/>
        </p:blipFill>
        <p:spPr>
          <a:xfrm>
            <a:off x="154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67712" fill="hold"/>
                                        <p:tgtEl>
                                          <p:spTgt spid="6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9419816"/>
          <p:cNvPicPr/>
          <p:nvPr/>
        </p:nvPicPr>
        <p:blipFill>
          <a:blip r:embed="rId3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9419816"/>
          <p:cNvPicPr/>
          <p:nvPr/>
        </p:nvPicPr>
        <p:blipFill>
          <a:blip r:embed="rId4"/>
          <a:stretch/>
        </p:blipFill>
        <p:spPr>
          <a:xfrm>
            <a:off x="0" y="35002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9419816"/>
          <p:cNvPicPr/>
          <p:nvPr/>
        </p:nvPicPr>
        <p:blipFill>
          <a:blip r:embed="rId6"/>
          <a:stretch/>
        </p:blipFill>
        <p:spPr>
          <a:xfrm>
            <a:off x="8893080" y="35002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7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19"/>
          <p:cNvSpPr/>
          <p:nvPr/>
        </p:nvSpPr>
        <p:spPr>
          <a:xfrm>
            <a:off x="2928960" y="285840"/>
            <a:ext cx="607212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Москва встречала своего героя. Цветы, улыбки, праздничное ликование. Героя поздравляли герой правительства, вручали высокие награды. За осуществление первого в мире космического полета Юрию Алексеевичу Гагарину было присвоено звание майора и впервые учрежденное звание «летчик-космонавт». За героический подвиг, прославивший нашу родину, за мужество, отвагу и беззаветное служение народу и делу прогресса первому в мире летчику-космонавту майору Юрию Гагарину было присвоено звание Героя Советского Союза с вручением ордена Ленина и медали «Золотая Звезда», в Москве был установлен бюст    Геро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1"/>
          <a:stretch/>
        </p:blipFill>
        <p:spPr>
          <a:xfrm>
            <a:off x="285840" y="285768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12"/>
          <a:stretch/>
        </p:blipFill>
        <p:spPr>
          <a:xfrm>
            <a:off x="214200" y="214200"/>
            <a:ext cx="25005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793377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7"/>
          <p:cNvPicPr/>
          <p:nvPr/>
        </p:nvPicPr>
        <p:blipFill>
          <a:blip r:embed="rId3"/>
          <a:stretch/>
        </p:blipFill>
        <p:spPr>
          <a:xfrm>
            <a:off x="2268360" y="1052640"/>
            <a:ext cx="4535640" cy="45352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714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0" y="142920"/>
            <a:ext cx="90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ечтать должен каждый … учиться мечтать, потому что без мечты нет движения вперед. И главная моя мечта — еще летать и летать в косм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Юрий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4643280" y="14292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3"/>
          <a:stretch/>
        </p:blipFill>
        <p:spPr>
          <a:xfrm>
            <a:off x="142920" y="3786120"/>
            <a:ext cx="4500360" cy="30718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4"/>
          <a:stretch/>
        </p:blipFill>
        <p:spPr>
          <a:xfrm>
            <a:off x="142920" y="0"/>
            <a:ext cx="4500360" cy="37861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5"/>
          <a:stretch/>
        </p:blipFill>
        <p:spPr>
          <a:xfrm>
            <a:off x="4643280" y="3571920"/>
            <a:ext cx="4253040" cy="32860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"/>
          <p:cNvSpPr/>
          <p:nvPr/>
        </p:nvSpPr>
        <p:spPr>
          <a:xfrm>
            <a:off x="428760" y="3357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На свою родину, в Гжатск Смоленской области, Ю. Гагарин попал только в июне 1961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2"/>
          <a:stretch/>
        </p:blipFill>
        <p:spPr>
          <a:xfrm>
            <a:off x="2714760" y="285840"/>
            <a:ext cx="3286080" cy="4324320"/>
          </a:xfrm>
          <a:prstGeom prst="rect">
            <a:avLst/>
          </a:prstGeom>
          <a:ln w="0">
            <a:noFill/>
          </a:ln>
        </p:spPr>
      </p:pic>
      <p:sp>
        <p:nvSpPr>
          <p:cNvPr id="647" name="TextBox 2"/>
          <p:cNvSpPr/>
          <p:nvPr/>
        </p:nvSpPr>
        <p:spPr>
          <a:xfrm>
            <a:off x="285840" y="485784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ходясь в Канаде, Ю. Гагарин узнал о полете в космос Германа Титова. Это было 6 августа 1961 года. Полет второго космонавта продолжался уже 25 часов 11 минут, отсчитано 700 тысяч километров. Открылась новая эра космонав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2286000" y="5000760"/>
            <a:ext cx="3286080" cy="1857240"/>
          </a:xfrm>
          <a:prstGeom prst="rect">
            <a:avLst/>
          </a:prstGeom>
          <a:ln w="0">
            <a:noFill/>
          </a:ln>
        </p:spPr>
      </p:pic>
      <p:sp>
        <p:nvSpPr>
          <p:cNvPr id="649" name="TextBox 2"/>
          <p:cNvSpPr/>
          <p:nvPr/>
        </p:nvSpPr>
        <p:spPr>
          <a:xfrm>
            <a:off x="214200" y="14292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 напряженные будни первого космонавта Земли продолжались. Он был назначен командиром отряда советских космонавтов, избран депутатом Верховного Совета СССР, членом ЦК ВЛКСМ. Продолжал активную летную деятельность, совершенствовал свое образование, поступив в Военно-воздушную академию имени Н.Е. Жуковского. И готовился к новому космическому полету, приступив к тренировкам по программе нового космического корабля «Союз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knu.mp3" descr=""/>
          <p:cNvPicPr/>
          <p:nvPr/>
        </p:nvPicPr>
        <p:blipFill>
          <a:blip r:embed="rId3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40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1"/>
          <p:cNvSpPr/>
          <p:nvPr/>
        </p:nvSpPr>
        <p:spPr>
          <a:xfrm>
            <a:off x="357120" y="21420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долгу службы  Юрий Алексеевич часто бывал на киржачском аэродроме. Но его официальный приезд в Киржач состоялся 29 марта 1963 года. Это была незабываемая для киржачан встреча. Гагарин побывал на заводе «Красный октябрь», шелкокомбинате, беседовал с рабочими и специалистами. А вечером состоялась встреча в районном Доме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именем Ю.А. Гагарина в Киржачском районе связано и одно из печальнейших мест на Земле – место авиационной катострофы, унесшей жизнь первого космонавта Земли, Которому едва исполнилось 34 года. Она случилась во время тренировочного полета 27 марта 1968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2"/>
          <a:stretch/>
        </p:blipFill>
        <p:spPr>
          <a:xfrm>
            <a:off x="1571760" y="3857760"/>
            <a:ext cx="5667120" cy="285732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500040" y="28584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с Гагариным погиб еще один летчик, полководник В.С. Серег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катастрофа потрясла весь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642960" y="142884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олет МИГ – 17 упал в глухой непро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мый лес около деревни Новоселово, Киржачского района и взорвался. Установить истинную причину катастрофы так и не удалось, хотя официальной комиссией было проведено беспрецедентное по глубине и тщательности расслед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3"/>
          <a:stretch/>
        </p:blipFill>
        <p:spPr>
          <a:xfrm>
            <a:off x="7358040" y="14292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9419816"/>
          <p:cNvPicPr/>
          <p:nvPr/>
        </p:nvPicPr>
        <p:blipFill>
          <a:blip r:embed="rId4"/>
          <a:stretch/>
        </p:blipFill>
        <p:spPr>
          <a:xfrm>
            <a:off x="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9419816"/>
          <p:cNvPicPr/>
          <p:nvPr/>
        </p:nvPicPr>
        <p:blipFill>
          <a:blip r:embed="rId7"/>
          <a:stretch/>
        </p:blipFill>
        <p:spPr>
          <a:xfrm>
            <a:off x="889308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20" descr="Gagarin_3"/>
          <p:cNvPicPr/>
          <p:nvPr/>
        </p:nvPicPr>
        <p:blipFill>
          <a:blip r:embed="rId12"/>
          <a:stretch/>
        </p:blipFill>
        <p:spPr>
          <a:xfrm>
            <a:off x="1428840" y="981000"/>
            <a:ext cx="5951520" cy="4091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21"/>
          <p:cNvSpPr/>
          <p:nvPr/>
        </p:nvSpPr>
        <p:spPr>
          <a:xfrm>
            <a:off x="1844640" y="47628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alibri"/>
              </a:rPr>
              <a:t>Место гибели Ю. Гагарина и В. Серёгина - Мемориа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4071960" cy="6000480"/>
          </a:xfrm>
          <a:prstGeom prst="rect">
            <a:avLst/>
          </a:prstGeom>
          <a:ln w="0">
            <a:noFill/>
          </a:ln>
        </p:spPr>
      </p:pic>
      <p:sp>
        <p:nvSpPr>
          <p:cNvPr id="674" name="TextBox 2"/>
          <p:cNvSpPr/>
          <p:nvPr/>
        </p:nvSpPr>
        <p:spPr>
          <a:xfrm>
            <a:off x="4286160" y="285840"/>
            <a:ext cx="471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 месте трагической гибели Ю.А. Гагарина и В.С. Серегина сооружен мемориал, в центре его – стела из красного камня, на которой в барельефном изображении – портреты погибших. Зимой и летом идут сюда люди, чтобы минутой скорбного молчания почтить память героев, приезжают их родные и близкие, российские и зарубежные космонав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31172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2"/>
          <p:cNvSpPr/>
          <p:nvPr/>
        </p:nvSpPr>
        <p:spPr>
          <a:xfrm>
            <a:off x="4429080" y="285840"/>
            <a:ext cx="45007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агаринский старт открыл двери во вселенную. Пусть всего 108 минут, но эти минуты стали поворотными в истории. За ними стояли годы неутомимой, самоотверженной работы больших коллективов ученых, инженеров, медиков, рабочих, людей многих специальностей. Мечты поколений, идей фантастов реализованы нашими современн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 клубке орбит, намотанных на земной шар, никогда не потеряется первый виток – гагаринский», - пис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 Ти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09_-_sozvezdie_gagarina.mp3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9419816"/>
          <p:cNvPicPr/>
          <p:nvPr/>
        </p:nvPicPr>
        <p:blipFill>
          <a:blip r:embed="rId5"/>
          <a:stretch/>
        </p:blipFill>
        <p:spPr>
          <a:xfrm>
            <a:off x="0" y="35719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8" descr="9419816"/>
          <p:cNvPicPr/>
          <p:nvPr/>
        </p:nvPicPr>
        <p:blipFill>
          <a:blip r:embed="rId7"/>
          <a:stretch/>
        </p:blipFill>
        <p:spPr>
          <a:xfrm>
            <a:off x="889308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324000" y="486900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Во многих городах России и в городах других стран существуют улицы названные именем космонавта, проспекты, площади, бульвары, парки, клубы и школы имени Гагар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0" descr="phoca_thumb_l_p5"/>
          <p:cNvPicPr/>
          <p:nvPr/>
        </p:nvPicPr>
        <p:blipFill>
          <a:blip r:embed="rId12"/>
          <a:stretch/>
        </p:blipFill>
        <p:spPr>
          <a:xfrm>
            <a:off x="539640" y="549360"/>
            <a:ext cx="2880000" cy="3456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1" descr="05"/>
          <p:cNvPicPr/>
          <p:nvPr/>
        </p:nvPicPr>
        <p:blipFill>
          <a:blip r:embed="rId13"/>
          <a:stretch/>
        </p:blipFill>
        <p:spPr>
          <a:xfrm>
            <a:off x="3780000" y="549360"/>
            <a:ext cx="4608360" cy="345276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22"/>
          <p:cNvSpPr/>
          <p:nvPr/>
        </p:nvSpPr>
        <p:spPr>
          <a:xfrm>
            <a:off x="4591080" y="41497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Парк им. Ю. Гагарина в Сама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534960" y="4149720"/>
            <a:ext cx="29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Памятник Ю. Гагарину в Моск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9419816"/>
          <p:cNvPicPr/>
          <p:nvPr/>
        </p:nvPicPr>
        <p:blipFill>
          <a:blip r:embed="rId5"/>
          <a:stretch/>
        </p:blipFill>
        <p:spPr>
          <a:xfrm>
            <a:off x="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9419816"/>
          <p:cNvPicPr/>
          <p:nvPr/>
        </p:nvPicPr>
        <p:blipFill>
          <a:blip r:embed="rId7"/>
          <a:stretch/>
        </p:blipFill>
        <p:spPr>
          <a:xfrm>
            <a:off x="889308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9419816"/>
          <p:cNvPicPr/>
          <p:nvPr/>
        </p:nvPicPr>
        <p:blipFill>
          <a:blip r:embed="rId8"/>
          <a:stretch/>
        </p:blipFill>
        <p:spPr>
          <a:xfrm>
            <a:off x="889308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324000" y="5300640"/>
            <a:ext cx="84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Существует также Кубок Гагарина, главный трофей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Континентальной хоккейной ли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20" descr="fae8d894befe"/>
          <p:cNvPicPr/>
          <p:nvPr/>
        </p:nvPicPr>
        <p:blipFill>
          <a:blip r:embed="rId12"/>
          <a:stretch/>
        </p:blipFill>
        <p:spPr>
          <a:xfrm>
            <a:off x="2916360" y="549360"/>
            <a:ext cx="3352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32000" y="404280"/>
            <a:ext cx="5680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Мечтать должен каждый. … учиться мечтать, потому что без мечты нет движения вперед. И главная моя мечта — еще летать и летать в космос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Юрий Гагари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01680" y="1676160"/>
            <a:ext cx="2325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9419816"/>
          <p:cNvPicPr/>
          <p:nvPr/>
        </p:nvPicPr>
        <p:blipFill>
          <a:blip r:embed="rId4"/>
          <a:stretch/>
        </p:blipFill>
        <p:spPr>
          <a:xfrm>
            <a:off x="14292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9419816"/>
          <p:cNvPicPr/>
          <p:nvPr/>
        </p:nvPicPr>
        <p:blipFill>
          <a:blip r:embed="rId5"/>
          <a:stretch/>
        </p:blipFill>
        <p:spPr>
          <a:xfrm>
            <a:off x="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9419816"/>
          <p:cNvPicPr/>
          <p:nvPr/>
        </p:nvPicPr>
        <p:blipFill>
          <a:blip r:embed="rId7"/>
          <a:stretch/>
        </p:blipFill>
        <p:spPr>
          <a:xfrm>
            <a:off x="889308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395280" y="4941720"/>
            <a:ext cx="849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В честь Гагарина назва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научно-исследовательское суд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«Космонавт Юрий Гагари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20" descr="image011"/>
          <p:cNvPicPr/>
          <p:nvPr/>
        </p:nvPicPr>
        <p:blipFill>
          <a:blip r:embed="rId12"/>
          <a:stretch/>
        </p:blipFill>
        <p:spPr>
          <a:xfrm>
            <a:off x="1258920" y="620640"/>
            <a:ext cx="66978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9419816"/>
          <p:cNvPicPr/>
          <p:nvPr/>
        </p:nvPicPr>
        <p:blipFill>
          <a:blip r:embed="rId4"/>
          <a:stretch/>
        </p:blipFill>
        <p:spPr>
          <a:xfrm>
            <a:off x="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9419816"/>
          <p:cNvPicPr/>
          <p:nvPr/>
        </p:nvPicPr>
        <p:blipFill>
          <a:blip r:embed="rId8"/>
          <a:stretch/>
        </p:blipFill>
        <p:spPr>
          <a:xfrm>
            <a:off x="889308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8"/>
          <p:cNvSpPr/>
          <p:nvPr/>
        </p:nvSpPr>
        <p:spPr>
          <a:xfrm>
            <a:off x="324000" y="5516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Имя Юрия Гагарина носит кратер на обратной стороне Лу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20" descr="640"/>
          <p:cNvPicPr/>
          <p:nvPr/>
        </p:nvPicPr>
        <p:blipFill>
          <a:blip r:embed="rId12"/>
          <a:stretch/>
        </p:blipFill>
        <p:spPr>
          <a:xfrm>
            <a:off x="1476360" y="692280"/>
            <a:ext cx="629280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3357720" cy="5357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3"/>
          <a:stretch/>
        </p:blipFill>
        <p:spPr>
          <a:xfrm>
            <a:off x="4643280" y="85716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5572080" cy="57816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" descr=""/>
          <p:cNvPicPr/>
          <p:nvPr/>
        </p:nvPicPr>
        <p:blipFill>
          <a:blip r:embed="rId3"/>
          <a:stretch/>
        </p:blipFill>
        <p:spPr>
          <a:xfrm>
            <a:off x="5786280" y="642960"/>
            <a:ext cx="31766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468360" y="494172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5" descr="9419816"/>
          <p:cNvPicPr/>
          <p:nvPr/>
        </p:nvPicPr>
        <p:blipFill>
          <a:blip r:embed="rId3"/>
          <a:stretch/>
        </p:blipFill>
        <p:spPr>
          <a:xfrm>
            <a:off x="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9419816"/>
          <p:cNvPicPr/>
          <p:nvPr/>
        </p:nvPicPr>
        <p:blipFill>
          <a:blip r:embed="rId6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9" descr="9419816"/>
          <p:cNvPicPr/>
          <p:nvPr/>
        </p:nvPicPr>
        <p:blipFill>
          <a:blip r:embed="rId7"/>
          <a:stretch/>
        </p:blipFill>
        <p:spPr>
          <a:xfrm>
            <a:off x="889308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15"/>
          <p:cNvSpPr/>
          <p:nvPr/>
        </p:nvSpPr>
        <p:spPr>
          <a:xfrm>
            <a:off x="395280" y="4076640"/>
            <a:ext cx="849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17"/>
          <p:cNvSpPr/>
          <p:nvPr/>
        </p:nvSpPr>
        <p:spPr>
          <a:xfrm>
            <a:off x="324000" y="4724280"/>
            <a:ext cx="8496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19"/>
          <p:cNvSpPr/>
          <p:nvPr/>
        </p:nvSpPr>
        <p:spPr>
          <a:xfrm>
            <a:off x="324000" y="544500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Picture 20" descr="587635_3"/>
          <p:cNvPicPr/>
          <p:nvPr/>
        </p:nvPicPr>
        <p:blipFill>
          <a:blip r:embed="rId11"/>
          <a:stretch/>
        </p:blipFill>
        <p:spPr>
          <a:xfrm>
            <a:off x="324000" y="260280"/>
            <a:ext cx="4968720" cy="39751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1"/>
          <p:cNvSpPr/>
          <p:nvPr/>
        </p:nvSpPr>
        <p:spPr>
          <a:xfrm>
            <a:off x="250920" y="220500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WordArt 22" descr=""/>
          <p:cNvPicPr/>
          <p:nvPr/>
        </p:nvPicPr>
        <p:blipFill>
          <a:blip r:embed="rId12"/>
          <a:stretch/>
        </p:blipFill>
        <p:spPr>
          <a:xfrm>
            <a:off x="603360" y="4863960"/>
            <a:ext cx="7888320" cy="1274760"/>
          </a:xfrm>
          <a:prstGeom prst="rect">
            <a:avLst/>
          </a:prstGeom>
          <a:ln w="0">
            <a:noFill/>
          </a:ln>
        </p:spPr>
      </p:pic>
      <p:sp>
        <p:nvSpPr>
          <p:cNvPr id="777" name="TextBox 22"/>
          <p:cNvSpPr/>
          <p:nvPr/>
        </p:nvSpPr>
        <p:spPr>
          <a:xfrm>
            <a:off x="5429160" y="42876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йдут годы, века, в памяти человечества многое сотрется или утратит свою ценность, но имя Юрия Гагарина в истории останется навсегда. А ушедший уже 20 век назовут среди прочего космическим 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С 9 апреля 1962 года в ознаменование первого в мире полета человека в космос в нашей стране ежегодно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12 апреля </a:t>
            </a: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отмечается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День космонавтики</a:t>
            </a: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. По решению Международной авиационной федерации этот день стал Всемирным днем авиации и космонавтики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Запевала звёздных дорог.mp3" descr=""/>
          <p:cNvPicPr/>
          <p:nvPr/>
        </p:nvPicPr>
        <p:blipFill>
          <a:blip r:embed="rId2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6590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Запевала звёздных дорог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857160" y="142920"/>
            <a:ext cx="7143840" cy="67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16590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1357200" y="214200"/>
            <a:ext cx="57866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fon_cosmos01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5760" y="451008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АГАРИН Юрий Алексеевич</a:t>
            </a:r>
            <a:r>
              <a:rPr b="0" lang="en-US" sz="2800" spc="-1" strike="noStrike">
                <a:solidFill>
                  <a:srgbClr val="eeece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0_adc_62425ca2_XL"/>
          <p:cNvPicPr/>
          <p:nvPr/>
        </p:nvPicPr>
        <p:blipFill>
          <a:blip r:embed="rId3"/>
          <a:stretch/>
        </p:blipFill>
        <p:spPr>
          <a:xfrm>
            <a:off x="179280" y="0"/>
            <a:ext cx="3724560" cy="43210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9"/>
          <p:cNvSpPr/>
          <p:nvPr/>
        </p:nvSpPr>
        <p:spPr>
          <a:xfrm>
            <a:off x="318600" y="5013360"/>
            <a:ext cx="39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9 марта 1934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27 марта 1968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3924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Так кто же та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Юрий Гагари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ервый космонав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ланеты Земл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бесстрашный рыцарь космос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славный сын нашей Род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челове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одвиг и улыбка котор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окорили всю нашу планет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00:11Z</dcterms:created>
  <dc:creator>User</dc:creator>
  <dc:description/>
  <dc:language>en-US</dc:language>
  <cp:lastModifiedBy>ольга</cp:lastModifiedBy>
  <dcterms:modified xsi:type="dcterms:W3CDTF">2012-02-29T05:55:19Z</dcterms:modified>
  <cp:revision>47</cp:revision>
  <dc:subject/>
  <dc:title>Слайд 1</dc:title>
</cp:coreProperties>
</file>